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5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C2A2-69D1-48E3-91B4-7650B34894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A02F-F43B-405F-8EC3-D4C8509E2C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9AEF-A96E-48D5-AFB4-E8BAF8DF30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0793-3FC7-4E72-AB04-1DBCBA2557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0B49-0EB7-47E4-936E-CA56984B8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C4A5-2C5C-45C2-B744-84C175FB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78C5-2C44-4F6D-B29D-38E2B50A4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D368-9281-46D4-A691-2B8A81D33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CB556-BCF8-49A5-AA0E-3EFEB3366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C470-193B-43FC-B93C-FFE97F2C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61664-2064-4C7C-A7A0-8134C3BC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A198-A525-4921-854E-C0F588FF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D3E0-3FB2-462D-8572-8FD1504B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5A90A-220B-48E4-A151-34B485EA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079C8-7432-4BAC-8C69-5709F514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AB6C-E31E-48E4-BEC7-D09CB82B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8E46-FC22-4E22-861F-3047C75C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41D9-0E0F-4260-9BA7-6E7739FD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4664-93A7-46B6-82AB-92276EE4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CC85-ED7F-47A2-8E23-7357285FA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0E4D-5FF2-4239-A98E-6CC9E54A3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EFBA-0B01-4FA0-AC8C-58777409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C396-37C8-4DC2-AE0A-E88A7974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F737-902F-4671-8478-83D8C10E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4E26-75CD-42DF-893F-1C51F3B7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E90D-B3CE-4861-959F-5EDBC4CE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E4B8-8A31-460C-A637-E00FCDAB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96CA-0D37-4000-B514-4603FC46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6FD6-F604-411A-82FD-9DCE48588F0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1FE8-5161-4559-AF27-624EB748F3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40D3-4888-4C3D-B420-D717F4BF3B0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5607-53A0-4BA8-885A-B6A5C73BC3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mailto:emil@mednet.ru" TargetMode="External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3"/>
          <p:cNvSpPr/>
          <p:nvPr/>
        </p:nvSpPr>
        <p:spPr>
          <a:xfrm>
            <a:off x="3276720" y="6435720"/>
            <a:ext cx="27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Москва 2019 г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5"/>
          <p:cNvSpPr/>
          <p:nvPr/>
        </p:nvSpPr>
        <p:spPr>
          <a:xfrm>
            <a:off x="1476360" y="2781360"/>
            <a:ext cx="640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шибки при формировании формы ФС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4 «Сведения о деятельности подразделений медицинской организации, оказывающих медицинскую помощь в стационарных условия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D1FD-26CA-402A-8B9B-9ACD466D31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45840" y="188640"/>
            <a:ext cx="8040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2000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Некоторые условия контро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66560" y="968400"/>
          <a:ext cx="8229600" cy="1782720"/>
        </p:xfrm>
        <a:graphic>
          <a:graphicData uri="http://schemas.openxmlformats.org/drawingml/2006/table">
            <a:tbl>
              <a:tblPr/>
              <a:tblGrid>
                <a:gridCol w="2495880"/>
                <a:gridCol w="466560"/>
                <a:gridCol w="647640"/>
                <a:gridCol w="531720"/>
                <a:gridCol w="598680"/>
                <a:gridCol w="600120"/>
                <a:gridCol w="522360"/>
                <a:gridCol w="522000"/>
                <a:gridCol w="460440"/>
                <a:gridCol w="461880"/>
                <a:gridCol w="460440"/>
                <a:gridCol w="461880"/>
              </a:tblGrid>
              <a:tr h="137520"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-10 пересмот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Взрослые (18 лет и более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выписа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йко-дн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о- ставле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х п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тренны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ния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-н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 помощь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мических вскры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судебно-медицин-ски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Прямоугольник 7"/>
          <p:cNvSpPr/>
          <p:nvPr/>
        </p:nvSpPr>
        <p:spPr>
          <a:xfrm>
            <a:off x="646200" y="4869000"/>
            <a:ext cx="799128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Строка 10.7 равна сумме строк (10.7.1+10.7.2+10.7.3+ 10.7.4+ 10.7.5+10.7.6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по графам 4-7, 13-16 и 22-27:      14,2000,107,04:07.13:16.22:27=14,2000,380+381+333╧336,04:07.13:16.22:27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Строка 10.7 больше или равна сумме строк (10.7.1+10.7.2+10.7.3+ 10.7.4+ 10.7.5+10.7.6) по графам 8-12, 17-21 и 28-33: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14,2000,107,08:12.17:21.28:33&gt;=14,2000,380+381+333╧336,08:12.17:21.28:33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66560" y="2860560"/>
          <a:ext cx="8229600" cy="1900440"/>
        </p:xfrm>
        <a:graphic>
          <a:graphicData uri="http://schemas.openxmlformats.org/drawingml/2006/table">
            <a:tbl>
              <a:tblPr/>
              <a:tblGrid>
                <a:gridCol w="2505240"/>
                <a:gridCol w="449280"/>
                <a:gridCol w="646200"/>
                <a:gridCol w="576000"/>
                <a:gridCol w="576360"/>
                <a:gridCol w="576360"/>
                <a:gridCol w="576360"/>
                <a:gridCol w="503280"/>
                <a:gridCol w="471240"/>
                <a:gridCol w="405000"/>
                <a:gridCol w="495360"/>
                <a:gridCol w="448920"/>
              </a:tblGrid>
              <a:tr h="137520">
                <a:tc>
                  <a:txBody>
                    <a:bodyPr lIns="57240" rIns="5724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цереброваскулярны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0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I60-I6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74680"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арахноидальное кровоизлия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имозговое и другое внутричерепно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воизлияние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1, I6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аркт мозг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ульт не уточненный, как кровоизлияние  или инфарк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упорка и стеноз прецеребральных, церебральных артерий, не приводящ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инфаркту мозг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5- I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цереброваскулярны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7240" rIns="57240" tIns="0" bIns="0" anchor="t">
                      <a:noAutofit/>
                    </a:bodyPr>
                    <a:p>
                      <a:pPr marL="44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церебральный атеросклеро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6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40D4-5C96-4709-B759-AF4148D1FF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5840" y="188640"/>
            <a:ext cx="8040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2000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Некоторые условия контро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68200" y="907920"/>
          <a:ext cx="8229600" cy="2035440"/>
        </p:xfrm>
        <a:graphic>
          <a:graphicData uri="http://schemas.openxmlformats.org/drawingml/2006/table">
            <a:tbl>
              <a:tblPr/>
              <a:tblGrid>
                <a:gridCol w="1657440"/>
                <a:gridCol w="469800"/>
                <a:gridCol w="565200"/>
                <a:gridCol w="595440"/>
                <a:gridCol w="596880"/>
                <a:gridCol w="519120"/>
                <a:gridCol w="446040"/>
                <a:gridCol w="519120"/>
                <a:gridCol w="444600"/>
                <a:gridCol w="371520"/>
                <a:gridCol w="409320"/>
                <a:gridCol w="408240"/>
                <a:gridCol w="407880"/>
                <a:gridCol w="409680"/>
                <a:gridCol w="409320"/>
              </a:tblGrid>
              <a:tr h="137520">
                <a:tc row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 пере-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 Дети (в возрасте 0-17 лет включительно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-дено выписа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ми койко-дн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26)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-те д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остав- ленны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кст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ны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-ния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-н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. помощь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2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22  в возрас-те до 1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28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 до 1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-го-анато-мичес-ких вскры-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-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судебно-меди-цин-ских вскры-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-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268200" y="3065400"/>
          <a:ext cx="8229600" cy="1692360"/>
        </p:xfrm>
        <a:graphic>
          <a:graphicData uri="http://schemas.openxmlformats.org/drawingml/2006/table">
            <a:tbl>
              <a:tblPr/>
              <a:tblGrid>
                <a:gridCol w="1639800"/>
                <a:gridCol w="503280"/>
                <a:gridCol w="576360"/>
                <a:gridCol w="576360"/>
                <a:gridCol w="576360"/>
                <a:gridCol w="502920"/>
                <a:gridCol w="505080"/>
                <a:gridCol w="503280"/>
                <a:gridCol w="433080"/>
                <a:gridCol w="358920"/>
                <a:gridCol w="432000"/>
                <a:gridCol w="433080"/>
                <a:gridCol w="358920"/>
                <a:gridCol w="409680"/>
                <a:gridCol w="420480"/>
              </a:tblGrid>
              <a:tr h="45684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онические болезни миндалин и аденоидов, перитонзиллярный абсцес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35-J3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бронхит хронический и неуточненный, эмфизем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1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J40-J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1184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другая хроническая обструктивная легочная болезнь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1.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J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бронхоэктатическая болез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1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J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тма; астматический стату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45, J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Прямоугольник 11"/>
          <p:cNvSpPr/>
          <p:nvPr/>
        </p:nvSpPr>
        <p:spPr>
          <a:xfrm>
            <a:off x="838080" y="4941720"/>
            <a:ext cx="78487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Строки 117-119 по графам 25 и 27 должны быть равны 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14,2000,117:119,25.27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0602-60C1-4055-9845-FF3F039F45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5840" y="188640"/>
            <a:ext cx="8040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2000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Некоторые условия контро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68200" y="907920"/>
          <a:ext cx="8229600" cy="2035440"/>
        </p:xfrm>
        <a:graphic>
          <a:graphicData uri="http://schemas.openxmlformats.org/drawingml/2006/table">
            <a:tbl>
              <a:tblPr/>
              <a:tblGrid>
                <a:gridCol w="1657440"/>
                <a:gridCol w="469800"/>
                <a:gridCol w="565200"/>
                <a:gridCol w="595440"/>
                <a:gridCol w="596880"/>
                <a:gridCol w="519120"/>
                <a:gridCol w="446040"/>
                <a:gridCol w="519120"/>
                <a:gridCol w="444600"/>
                <a:gridCol w="371520"/>
                <a:gridCol w="409320"/>
                <a:gridCol w="408240"/>
                <a:gridCol w="407880"/>
                <a:gridCol w="409680"/>
                <a:gridCol w="409320"/>
              </a:tblGrid>
              <a:tr h="137520">
                <a:tc row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 пере-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 Дети (в возрасте 0-17 лет включительно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-дено выписа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ми койко-дн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26)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-те д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остав- ленны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кст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ны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-ния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-н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. помощь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2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22  в возрас-те до 1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28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 до 1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-го-анато-мичес-ких вскры-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-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судебно-меди-цин-ских вскры-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-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262080" y="3032280"/>
          <a:ext cx="8215200" cy="274320"/>
        </p:xfrm>
        <a:graphic>
          <a:graphicData uri="http://schemas.openxmlformats.org/drawingml/2006/table">
            <a:tbl>
              <a:tblPr/>
              <a:tblGrid>
                <a:gridCol w="1693800"/>
                <a:gridCol w="449280"/>
                <a:gridCol w="576000"/>
                <a:gridCol w="576360"/>
                <a:gridCol w="576360"/>
                <a:gridCol w="503280"/>
                <a:gridCol w="504720"/>
                <a:gridCol w="503280"/>
                <a:gridCol w="433440"/>
                <a:gridCol w="365040"/>
                <a:gridCol w="361800"/>
                <a:gridCol w="417600"/>
                <a:gridCol w="417600"/>
                <a:gridCol w="417600"/>
                <a:gridCol w="419040"/>
              </a:tblGrid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функция яичник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функция яиче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72880" y="3429000"/>
          <a:ext cx="8229600" cy="549360"/>
        </p:xfrm>
        <a:graphic>
          <a:graphicData uri="http://schemas.openxmlformats.org/drawingml/2006/table">
            <a:tbl>
              <a:tblPr/>
              <a:tblGrid>
                <a:gridCol w="1697040"/>
                <a:gridCol w="441360"/>
                <a:gridCol w="576360"/>
                <a:gridCol w="576360"/>
                <a:gridCol w="576360"/>
                <a:gridCol w="502920"/>
                <a:gridCol w="505080"/>
                <a:gridCol w="503280"/>
                <a:gridCol w="433080"/>
                <a:gridCol w="358920"/>
                <a:gridCol w="385920"/>
                <a:gridCol w="417240"/>
                <a:gridCol w="417600"/>
                <a:gridCol w="419040"/>
                <a:gridCol w="419040"/>
              </a:tblGrid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ройства менструаци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91-N9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37520">
                <a:tc>
                  <a:txBody>
                    <a:bodyPr lIns="57960" rIns="57960" tIns="0" bIns="0" anchor="t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ское бесплод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135" name="Прямоугольник 3"/>
          <p:cNvSpPr/>
          <p:nvPr/>
        </p:nvSpPr>
        <p:spPr>
          <a:xfrm>
            <a:off x="495360" y="4292640"/>
            <a:ext cx="77756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Строки 5.9, 5.10, 15.10, 15.11, 16.0 по графам 25, 27 и 33 должны быть равны 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14,2000,59.510.364.365.160,25.27.33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D534-CC60-4416-BF93-572FBF4320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Основные ошибки при заполнении таблицы 2000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1.</a:t>
            </a:r>
            <a:r>
              <a:rPr b="1" lang="ru-RU" sz="2400" spc="-1" strike="noStrike">
                <a:solidFill>
                  <a:srgbClr val="75213f"/>
                </a:solidFill>
                <a:latin typeface="Arial"/>
                <a:ea typeface="Arial"/>
              </a:rPr>
              <a:t>Состав пациентов в стационаре, сроки и исходы ле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е проведен контроль числа заболеваний по каждой строке в таблице между графами, а также между разделами А.Взрослые (18 лет и более) и Б.Взрослые старше трудоспособного возраста по всем строкам и граф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е проведен контроль числа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прочих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заболеваний по каждому классу болезней между графами, а также разделами А.Взрослые (18 лет и более) и Б.Взрослые старше трудоспособного возраста по всем строкам и граф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екорректное число проведенных выписанными пациентами койко-дней. Средний койко-день не может бы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менее 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 разделе В.Дети (в возрасте 0-17 лет включительно)     типичные ошибки связаны с графами 25 (выписано детей до 1 года) и 27 (проведено койко-дней в возрасте до 1 год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B760-9567-4B63-8E47-8238F16FD6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1. Таблица 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39640" y="836640"/>
          <a:ext cx="8353440" cy="4808520"/>
        </p:xfrm>
        <a:graphic>
          <a:graphicData uri="http://schemas.openxmlformats.org/drawingml/2006/table">
            <a:tbl>
              <a:tblPr/>
              <a:tblGrid>
                <a:gridCol w="1305000"/>
                <a:gridCol w="782640"/>
                <a:gridCol w="995400"/>
                <a:gridCol w="1020600"/>
                <a:gridCol w="993960"/>
                <a:gridCol w="1068480"/>
                <a:gridCol w="1035000"/>
                <a:gridCol w="11523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зросл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зрослые старше трудоспособного возра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трол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мер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ло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суд.-мед. вскрыт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ло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суд.-мед. Вскрыт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-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2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9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Экстрапирамидные и др.двиг. наруш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9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з них б-нь Паркинс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639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р.экстрапирамид. двиг.наруш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39800">
                <a:tc>
                  <a:txBody>
                    <a:bodyPr lIns="25704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5704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25704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-7.3.1-7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5704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4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6862-D0DD-441B-810A-9ED0EE4F42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2 (часть 1). Таблица 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900000" y="765000"/>
          <a:ext cx="7759800" cy="5789880"/>
        </p:xfrm>
        <a:graphic>
          <a:graphicData uri="http://schemas.openxmlformats.org/drawingml/2006/table">
            <a:tbl>
              <a:tblPr/>
              <a:tblGrid>
                <a:gridCol w="1162080"/>
                <a:gridCol w="493920"/>
                <a:gridCol w="576000"/>
                <a:gridCol w="7272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533520">
                <a:tc gridSpan="11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. Взрослые (18 лет и боле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ш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9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доставленных по экстренным показа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пациентов, доставленных СМП (из гр.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паталогоанатомических вск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установлено расхождений диаг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судебно-медиц. вскры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установ. расхождений 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реброваскулярные болез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33 5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0 8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0 7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534 6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 2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 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4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2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2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 х субарахн.кровоиз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4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3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2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 8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4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3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3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утримозг и вн.череп. кровоиз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 7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 8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 5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0 0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 8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0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аркт мозг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0 1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9 8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1 3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317 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 3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 9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ульт не уточнен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0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8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 4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0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упорка и стеноз ц.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 3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2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5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8 3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.церебрроваскул б-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0 2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 8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 7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764 2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6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6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4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6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9 7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8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3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14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44A2-3C12-4F5E-931A-B4D503E0D6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2 (часть 2). Таблица 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00000" y="765000"/>
          <a:ext cx="7759800" cy="5789880"/>
        </p:xfrm>
        <a:graphic>
          <a:graphicData uri="http://schemas.openxmlformats.org/drawingml/2006/table">
            <a:tbl>
              <a:tblPr/>
              <a:tblGrid>
                <a:gridCol w="1162080"/>
                <a:gridCol w="493920"/>
                <a:gridCol w="576000"/>
                <a:gridCol w="7272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533520">
                <a:tc gridSpan="11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. Взрослые старше трудоспособного возра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ш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9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доставленных по экстренным показа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пациентов, доставленных СМП (из гр.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паталогоанатомических вск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установлено расхождений диаг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судебно-медиц. вскры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установ. расхождений 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реброваскулярные болез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9 2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 1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4 3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857 7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 9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 9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9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2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2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 х субарахн.кровоиз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6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4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 6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9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3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утримозг и вн.череп. кровоиз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 7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 9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2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8 3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9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3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аркт мозг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9 7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3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1 8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164 1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 8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 3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ульт не уточнен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6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9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1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 7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7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упорка и стеноз ц.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5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5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6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5 8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.церебрроваскул б-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7 4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 0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 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677 3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4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9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8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6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8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 5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0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3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14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A632-222D-413B-96FC-DEB30A4AC8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2 (часть 3). Таблица 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900000" y="765000"/>
          <a:ext cx="7759800" cy="5789880"/>
        </p:xfrm>
        <a:graphic>
          <a:graphicData uri="http://schemas.openxmlformats.org/drawingml/2006/table">
            <a:tbl>
              <a:tblPr/>
              <a:tblGrid>
                <a:gridCol w="1162080"/>
                <a:gridCol w="493920"/>
                <a:gridCol w="576000"/>
                <a:gridCol w="7272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533520">
                <a:tc gridSpan="11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ТРО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ш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9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доставленных по экстренным показа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-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пациентов, доставленных СМП (из гр.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паталогоанатомических вск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-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установлено расхождений диаг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-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судебно-медиц. вскры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-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установ. расхождений 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реброваскулярные болез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4 3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 6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 4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676 8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 3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0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2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 х субарахн.кровоиз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2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6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8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 2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3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утримозг и вн.череп. кровоиз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0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9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2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1 6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9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6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аркт мозг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 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 4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 4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52 8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5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5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ульт не уточнен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4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1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7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 7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упорка и стеноз ц.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8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6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 4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.церебрроваскул б-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 7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 7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 6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086 8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5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1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5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B051-1C61-44EF-90C7-54AC3A719D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3. Таблица 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39640" y="907920"/>
          <a:ext cx="8229600" cy="54784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480"/>
                <a:gridCol w="1174680"/>
                <a:gridCol w="1176480"/>
                <a:gridCol w="1174680"/>
                <a:gridCol w="1176120"/>
              </a:tblGrid>
              <a:tr h="3988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.  Дети (в возрасте 0-17 лет включительно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классов и отдельных болез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гр.22 в возрасте 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о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(из гр.26) в возрасте 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ень в возрасте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2320">
                <a:tc>
                  <a:txBody>
                    <a:bodyPr lIns="25704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лезни вен, лимфатич. сосудов и лимфатич. уз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704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9800">
                <a:tc>
                  <a:txBody>
                    <a:bodyPr lIns="34308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флебит и тромбофлеб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30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7280">
                <a:tc>
                  <a:txBody>
                    <a:bodyPr lIns="34308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омбоз портальной ве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30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9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04840">
                <a:tc>
                  <a:txBody>
                    <a:bodyPr lIns="34308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рикозное расширение вен нижних конеч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30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9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5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92AC-41A7-4DDB-BF71-4BB2E5112D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4. Таблица 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39640" y="907920"/>
          <a:ext cx="8229600" cy="511812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480"/>
                <a:gridCol w="1174680"/>
                <a:gridCol w="1176480"/>
                <a:gridCol w="1174680"/>
                <a:gridCol w="1176120"/>
              </a:tblGrid>
              <a:tr h="613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.  Дети (в возрасте 0-17 лет включительно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классов и отдельных болез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гр.22 в возрасте 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о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(гр.26) в возрасте 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ень в возрасте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3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62200">
                <a:tc>
                  <a:txBody>
                    <a:bodyPr lIns="25704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инфекционный энтерит и кол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5704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73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50520">
                <a:tc>
                  <a:txBody>
                    <a:bodyPr lIns="34308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болезнь К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4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2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573120">
                <a:tc>
                  <a:txBody>
                    <a:bodyPr lIns="34308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звенный кол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4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5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CC0A-84A4-4E84-A4CF-A9F89E091E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3"/>
          <p:cNvSpPr/>
          <p:nvPr/>
        </p:nvSpPr>
        <p:spPr>
          <a:xfrm>
            <a:off x="3276720" y="6435720"/>
            <a:ext cx="27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Москва 2018 г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4"/>
          <p:cNvSpPr/>
          <p:nvPr/>
        </p:nvSpPr>
        <p:spPr>
          <a:xfrm>
            <a:off x="1476360" y="184464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ЕДЕРАЛЬНОЕ СТАТИСТИЧЕСКОЕ НАБЛЮ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5"/>
          <p:cNvSpPr/>
          <p:nvPr/>
        </p:nvSpPr>
        <p:spPr>
          <a:xfrm>
            <a:off x="1619280" y="2276640"/>
            <a:ext cx="64087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СВЕДЕНИЯ О ДЕЯ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ПОДРАЗДЕЛЕНИЙ МЕДИЦИНСКОЙ ОРГАНИЗАЦИИ, ОКАЗЫВАЮЩИХ МЕДИЦИНСКУЮ ПОМОЩЬ В СТАЦИОНАРНЫХ УСЛОВ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за 2019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17375e"/>
                </a:solidFill>
                <a:uFillTx/>
                <a:latin typeface="Arial"/>
              </a:rPr>
              <a:t>Форма №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Arial"/>
              </a:rPr>
              <a:t>Приказ Росст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Arial"/>
              </a:rPr>
              <a:t>Об утверждении фор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Arial"/>
              </a:rPr>
              <a:t>От 19 ноября 2018 г. № 67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C688-41A5-4F96-AB1D-47B0A02691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5. Таблица 20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55640" y="765000"/>
          <a:ext cx="7848720" cy="5419800"/>
        </p:xfrm>
        <a:graphic>
          <a:graphicData uri="http://schemas.openxmlformats.org/drawingml/2006/table">
            <a:tbl>
              <a:tblPr/>
              <a:tblGrid>
                <a:gridCol w="665280"/>
                <a:gridCol w="252360"/>
                <a:gridCol w="703080"/>
                <a:gridCol w="708120"/>
                <a:gridCol w="709560"/>
                <a:gridCol w="809640"/>
                <a:gridCol w="811440"/>
                <a:gridCol w="809640"/>
                <a:gridCol w="758520"/>
                <a:gridCol w="811440"/>
                <a:gridCol w="809640"/>
              </a:tblGrid>
              <a:tr h="823320"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. Взрослые (18 лет и более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.Взрослые старше трудоспособного возра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тр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8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1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/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/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-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6/4-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3760">
                <a:tc>
                  <a:txBody>
                    <a:bodyPr lIns="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страпир. и др. двиг. нару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3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28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5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03160">
                <a:tc>
                  <a:txBody>
                    <a:bodyPr lIns="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болезнь Паркинс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11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7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08080">
                <a:tc>
                  <a:txBody>
                    <a:bodyPr lIns="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экстрапирамид. и двигат. нару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2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1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4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2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6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D9A4-CF3E-4E84-8E45-F9BC6780E7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7. Таблица 20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755640" y="765000"/>
          <a:ext cx="7848720" cy="5510520"/>
        </p:xfrm>
        <a:graphic>
          <a:graphicData uri="http://schemas.openxmlformats.org/drawingml/2006/table">
            <a:tbl>
              <a:tblPr/>
              <a:tblGrid>
                <a:gridCol w="665280"/>
                <a:gridCol w="252360"/>
                <a:gridCol w="703080"/>
                <a:gridCol w="708120"/>
                <a:gridCol w="709560"/>
                <a:gridCol w="809640"/>
                <a:gridCol w="811440"/>
                <a:gridCol w="809640"/>
                <a:gridCol w="758520"/>
                <a:gridCol w="811440"/>
                <a:gridCol w="809640"/>
              </a:tblGrid>
              <a:tr h="915120"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. Взрослые (18 лет и более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.Взрослые старше трудоспособного возра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троль (Взрослые трудоспособного возраст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1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/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/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-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6/4-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3760">
                <a:tc>
                  <a:txBody>
                    <a:bodyPr lIns="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страпир. и др. двиг. нару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3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28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5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04960">
                <a:tc>
                  <a:txBody>
                    <a:bodyPr lIns="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болезнь Паркинс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11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6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5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06640">
                <a:tc>
                  <a:txBody>
                    <a:bodyPr lIns="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экстрапирамид. и двигат. нару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2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1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4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4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</a:tbl>
          </a:graphicData>
        </a:graphic>
      </p:graphicFrame>
      <p:sp>
        <p:nvSpPr>
          <p:cNvPr id="16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9696-B8E4-409F-8104-D3EFF64DE8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</a:t>
            </a:r>
            <a:br>
              <a:rPr sz="24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Таблица 3000</a:t>
            </a:r>
            <a:br>
              <a:rPr sz="20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 НОВОРОЖДЕННЫХ С ЗАБОЛЕВАНИЯМИ, ПОСТУПИВШИХ В ВОЗРАСТЕ 0-6 ДНЕЙ ЖИЗНИ, И ИСХОДЫ ИХ ЛЕЧЕНИЯ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57200" y="1268280"/>
          <a:ext cx="8229600" cy="4896000"/>
        </p:xfrm>
        <a:graphic>
          <a:graphicData uri="http://schemas.openxmlformats.org/drawingml/2006/table">
            <a:tbl>
              <a:tblPr/>
              <a:tblGrid>
                <a:gridCol w="2259000"/>
                <a:gridCol w="365040"/>
                <a:gridCol w="585720"/>
                <a:gridCol w="871560"/>
                <a:gridCol w="871560"/>
                <a:gridCol w="871560"/>
                <a:gridCol w="801720"/>
                <a:gridCol w="801720"/>
                <a:gridCol w="801720"/>
              </a:tblGrid>
              <a:tr h="106920">
                <a:tc rowSpan="3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заболеваний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пересмотр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ой тела при рождении до 1000 г (500-999г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ой тела при рождении 1000 г и более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пациентов в первые 0-6 дней после рожд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пациентов в первые 0-6 дней после рожд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ервые 0-6 дней после рожд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первые 0-6 дней после рожд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новорожденных с заболеваниям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 заболеваниями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е респираторные инфекции верхних дыхательных путей, грипп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06, J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J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невмони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12-J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и кожи и подкожной клетчатк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0-P9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 marL="2001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01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дленный  рост и недостаточность пита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 marL="2001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овая травма - 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10-P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5440" rIns="55440" tIns="0" bIns="0" anchor="ctr">
                      <a:noAutofit/>
                    </a:bodyPr>
                    <a:p>
                      <a:pPr marL="2905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разрыв внутричерепных ткан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05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кровоизлияние вследствие родовой травм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 marL="2001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ыхательные нарушения, характерные для перинатального периода - всего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20-P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 marL="2905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05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иутробная гипоксия, асфиксия при родах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20,P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080">
                <a:tc>
                  <a:txBody>
                    <a:bodyPr lIns="55440" rIns="55440" tIns="0" bIns="0" anchor="ctr">
                      <a:noAutofit/>
                    </a:bodyPr>
                    <a:p>
                      <a:pPr marL="2905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ыхательное расстройство у новорожденных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.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2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ая пневмония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.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2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натальные аспирационные синдром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.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ные болезни, специфичные для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натального периода - 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35-P3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080">
                <a:tc>
                  <a:txBody>
                    <a:bodyPr lIns="55440" rIns="55440" tIns="0" bIns="0" anchor="ctr">
                      <a:noAutofit/>
                    </a:bodyPr>
                    <a:p>
                      <a:pPr marL="21600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бактериальный сепсис новорожденно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55440" rIns="55440" tIns="0" bIns="0" anchor="ctr">
                      <a:noAutofit/>
                    </a:bodyPr>
                    <a:p>
                      <a:pPr marL="142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молитическая болезнь плода и новорожденного, водянка плода, обусловленная гемолитической болезнью; ядерная желтух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55-P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5440" rIns="55440" tIns="0" bIns="0" anchor="ctr">
                      <a:noAutofit/>
                    </a:bodyPr>
                    <a:p>
                      <a:pPr marL="142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натальная желтуха, обусловленная чрезмерным гемолизом, другими и неуточненными причинами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58-P5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5440" rIns="55440" tIns="0" bIns="0" anchor="ctr">
                      <a:noAutofit/>
                    </a:bodyPr>
                    <a:p>
                      <a:pPr marL="14292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моррагическая болезнь, диссеминированное внутрисосудистое свертывание у плода и новорожденного, другие перинатальные гематологические наруш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53,P60,P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 (пороки развития), деформации и хромосомные наруш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болезн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24D7-6EB3-43D1-A2A8-E5CA14EEA3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3000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2.</a:t>
            </a: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«Состав новорожденных с заболеваниями, поступивших в возрасте </a:t>
            </a:r>
            <a:br>
              <a:rPr sz="2000"/>
            </a:b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0-6 дней жизни, и исходы их лечени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оугольник 2"/>
          <p:cNvSpPr/>
          <p:nvPr/>
        </p:nvSpPr>
        <p:spPr>
          <a:xfrm>
            <a:off x="2286000" y="21366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"/>
          <p:cNvSpPr/>
          <p:nvPr/>
        </p:nvSpPr>
        <p:spPr>
          <a:xfrm>
            <a:off x="684360" y="2133720"/>
            <a:ext cx="7777080" cy="21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Arial"/>
              </a:rPr>
              <a:t>Основная ошибка при заполнении данной таблицы – учет детей, выписанных и умерших в родовспомогательных учреждениях (родильных домах и перинатальных центра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7421-5CD4-4159-800F-317F0C9C3A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3000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2.</a:t>
            </a: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«Состав новорожденных с заболеваниями, поступивших в возрасте </a:t>
            </a:r>
            <a:br>
              <a:rPr sz="2000"/>
            </a:b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0-6 дней жизни, и исходы их лечени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Прямоугольник 2"/>
          <p:cNvSpPr/>
          <p:nvPr/>
        </p:nvSpPr>
        <p:spPr>
          <a:xfrm>
            <a:off x="2286000" y="21366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3"/>
          <p:cNvSpPr/>
          <p:nvPr/>
        </p:nvSpPr>
        <p:spPr>
          <a:xfrm>
            <a:off x="682560" y="1403280"/>
            <a:ext cx="7777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Таблицу заполняют только учреждения, имеющие отделения (койки) патологии новорожденных и недоношенных дете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входящие</a:t>
            </a: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 в состав родовспомогательных учреждений (роддомов, перинатальных центро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В таблицу не включают сведения о больных и заболевших детях, оставленных в палатах новорожденных родовспомогательных учреждений (отделений), сведения об  этих новорожденных показывают в таблицах 2000 и 22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Таблица заполняется только теми медицинскими организациями, в которые переводились новорожденные указанного возраста из других ЛПУ и в данной организации есть койки для выхаживания недоношенных и патологии новорожденных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7CF7-98C5-47C0-94CD-E83BC9E2B1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3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2"/>
          <p:cNvSpPr/>
          <p:nvPr/>
        </p:nvSpPr>
        <p:spPr>
          <a:xfrm>
            <a:off x="457200" y="836640"/>
            <a:ext cx="814716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Пример 1.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 В составе многопрофильного стационара имеются родильные отделения (койки для беременных и рожениц) и отделения для новорожденных (койки патологии новорожденных и недоношенных детей). На эти койки поступают больные новорожденные в пределах своего юридического лица (т.е. внутренние переводы из родильного отделения на койки патологии новорожденных), а также больные новорожденные из других медицинских организаций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Вопрос: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надо ли заполнять таблицу 3000 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Ответ: 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переведенным новорожденным в пределах своего юр.лица (внутренние переводы) т.3000  не заполнять, заполняют т.2000 и форму 32. А в случае смерти новорожденных - т.2200. Т.3000 заполнять только переведенным из других ЛПУ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Пример 2.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Медицинская организация имеет в своем составе койки для новорожденных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Вопрос: 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надо ли заполнять таблицу 3000 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Ответ: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Заполнять в том случае, если в этой МО нет родильных отделений и на эти койки новорожденных поступают больные новорожденные из родильных отделений других ЛПУ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Пример 3.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В МО оказывается специализированная помощь новорожденным, в составе которой имеются педиатрические койки соответствующего профиля, реанимационные койки для новорожденных и койки интенсивной терапии для новорожденных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Вопрос: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надо ли заполнять т.3000 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Ответ: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аналогичен ответу на 2-й вопрос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75213f"/>
                </a:solidFill>
                <a:latin typeface="Calibri"/>
              </a:rPr>
              <a:t>Форма №14 Таблица 4000</a:t>
            </a:r>
            <a:br>
              <a:rPr sz="2400"/>
            </a:br>
            <a:r>
              <a:rPr b="1" lang="ru-RU" sz="2400" spc="-1" strike="noStrike">
                <a:solidFill>
                  <a:srgbClr val="75213f"/>
                </a:solidFill>
                <a:latin typeface="Calibri"/>
              </a:rPr>
              <a:t>3. Хирургическая работа стационар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000"/>
            </a:br>
            <a:br>
              <a:rPr sz="20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2"/>
          <p:cNvSpPr/>
          <p:nvPr/>
        </p:nvSpPr>
        <p:spPr>
          <a:xfrm>
            <a:off x="765000" y="1197000"/>
            <a:ext cx="79218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В таблицу включаются сведения о всех выполненных операциях (плановых и экстренных), проведенных в лечебном учреждении, независимо от того, в каком отделении была проведена операц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ри проведении нескольких операций  одному и тому же пациенту в таблице показываются все операции, независимо от того, одномоментно или в разные сроки были произведены эти операции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Операция, произведенная в несколько этапов в течение одной госпитализации, учитывается как одна операц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В графе «умерло оперированных в стационаре» указывается число умерших оперированных пациентов, независимо от причины смерти: заболевание, по поводу которого была произведена операция, осложнение, связанное с операцией или другие заболе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В случае смерти пациента, перенесшего несколько операций, как умершего его следуют показывать лишь по одной операции (наиболее сложной и радикальной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5BA8-8140-43ED-9E3B-420E672DE6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14, 4000, 1, 03:28 = 14, 4000, 2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c0472"/>
                </a:solidFill>
                <a:latin typeface="Arial"/>
              </a:rPr>
              <a:t>╧ </a:t>
            </a: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20 + 421, 03: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Отсутствие дублир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Расшифровка «прочих» операций, не вошедших в предлагаемый  перечен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В графе 28 - указывается число направленных материалов на морфологическое исследование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по числу операций  </a:t>
            </a: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(Приказ МЗ РФ от 24 марта 2016 г. №179Н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Не должно быть цифр  в «закрещенных» клетк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188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4000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1C6E-A676-41EF-A547-079B13EB5B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55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c0472"/>
                </a:solidFill>
                <a:latin typeface="Calibri"/>
              </a:rPr>
              <a:t>Пример 8. Таблица 4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68360" y="981000"/>
          <a:ext cx="8148600" cy="5684760"/>
        </p:xfrm>
        <a:graphic>
          <a:graphicData uri="http://schemas.openxmlformats.org/drawingml/2006/table">
            <a:tbl>
              <a:tblPr/>
              <a:tblGrid>
                <a:gridCol w="2016000"/>
                <a:gridCol w="874800"/>
                <a:gridCol w="1314360"/>
                <a:gridCol w="1314360"/>
                <a:gridCol w="1314720"/>
                <a:gridCol w="1314360"/>
              </a:tblGrid>
              <a:tr h="3682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опер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операций, проведенных в стациона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детям 0-17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ключит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ключи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гр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возрас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1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-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ключи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 при сосудистых пороках моз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на аневризм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эндоваскулярное выклю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.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из 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8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4CDC-899F-4F28-91BA-86A35A0676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32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ример 9. Таблица 4000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50920" y="765000"/>
          <a:ext cx="8640720" cy="5197680"/>
        </p:xfrm>
        <a:graphic>
          <a:graphicData uri="http://schemas.openxmlformats.org/drawingml/2006/table">
            <a:tbl>
              <a:tblPr/>
              <a:tblGrid>
                <a:gridCol w="1931760"/>
                <a:gridCol w="708120"/>
                <a:gridCol w="1200240"/>
                <a:gridCol w="1200240"/>
                <a:gridCol w="1199880"/>
                <a:gridCol w="1200240"/>
                <a:gridCol w="1200240"/>
              </a:tblGrid>
              <a:tr h="3690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операций, проведенных в стациона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нус 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7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детям 0-17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ключ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ключи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гр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возрас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1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-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ключи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 при эпилепсии, паркинсонизме, мышечно-тонических расстройств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резекционные и деструктивные 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.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тановка стимуля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.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из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8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5C78-BFF3-410B-84C7-983052776A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Arial"/>
                <a:ea typeface="Arial"/>
              </a:rPr>
              <a:t>     </a:t>
            </a:r>
            <a:r>
              <a:rPr b="1" lang="ru-RU" sz="2800" spc="-1" strike="noStrike">
                <a:solidFill>
                  <a:srgbClr val="0c0472"/>
                </a:solidFill>
                <a:latin typeface="Arial"/>
                <a:ea typeface="Arial"/>
              </a:rPr>
              <a:t>Форму федерального статистического наблюдения №14 составляют и предоставляют юридические лица – медицинские организации, имеющие подразделения, оказывающие медицинскую помощь в стационарных условия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C310-DE35-4925-BC3A-87A7B750D7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мер 10. Таблица 4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84360" y="1341360"/>
          <a:ext cx="7886520" cy="4486320"/>
        </p:xfrm>
        <a:graphic>
          <a:graphicData uri="http://schemas.openxmlformats.org/drawingml/2006/table">
            <a:tbl>
              <a:tblPr/>
              <a:tblGrid>
                <a:gridCol w="1577880"/>
                <a:gridCol w="1576440"/>
                <a:gridCol w="1577880"/>
                <a:gridCol w="1576440"/>
                <a:gridCol w="1577880"/>
              </a:tblGrid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опер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опера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гр.3 направлено материалов на морфл.иссл-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ро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36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 на сосуд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10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2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58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операции на артерия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7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1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96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 на вен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15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2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3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операции по строке 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9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B0D1-5943-40C5-84F5-28AE4B3CD3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11. Таблицы 4000, 40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95280" y="1052640"/>
          <a:ext cx="7975440" cy="5522760"/>
        </p:xfrm>
        <a:graphic>
          <a:graphicData uri="http://schemas.openxmlformats.org/drawingml/2006/table">
            <a:tbl>
              <a:tblPr/>
              <a:tblGrid>
                <a:gridCol w="1008000"/>
                <a:gridCol w="865080"/>
                <a:gridCol w="790920"/>
                <a:gridCol w="1152360"/>
                <a:gridCol w="1152360"/>
                <a:gridCol w="1008360"/>
                <a:gridCol w="863640"/>
                <a:gridCol w="1134720"/>
              </a:tblGrid>
              <a:tr h="946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ние 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блица 4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блица 4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роль  (Т. 4000 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. 400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операций с осложнен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с применением ВМ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операций с осложнен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из гр. 11 таб.40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с применением ВМ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операций с осложнен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с применением ВМ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нтгенэндоваскулярные диля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.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со стентировани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.1.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e26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e26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из строки 8.1.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9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3F46-76D8-49EF-B0E6-DE75B6F1C9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41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187280" y="1557360"/>
          <a:ext cx="6212160" cy="2286000"/>
        </p:xfrm>
        <a:graphic>
          <a:graphicData uri="http://schemas.openxmlformats.org/drawingml/2006/table">
            <a:tbl>
              <a:tblPr/>
              <a:tblGrid>
                <a:gridCol w="2643480"/>
                <a:gridCol w="758880"/>
                <a:gridCol w="760320"/>
                <a:gridCol w="760320"/>
                <a:gridCol w="1289160"/>
              </a:tblGrid>
              <a:tr h="1526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анестез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анестезий, е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пациентов, че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тре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ов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госед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пидуральная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нальная (субарахноидальная)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нально-эпидуральная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тальная внутривенная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инированный эндотрахеальный нарко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етанная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кральная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иполостная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165A-EC41-42AE-BA52-49298E72D9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42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3960" y="1773360"/>
          <a:ext cx="8229600" cy="3352680"/>
        </p:xfrm>
        <a:graphic>
          <a:graphicData uri="http://schemas.openxmlformats.org/drawingml/2006/table">
            <a:tbl>
              <a:tblPr/>
              <a:tblGrid>
                <a:gridCol w="1905120"/>
                <a:gridCol w="457200"/>
                <a:gridCol w="990720"/>
                <a:gridCol w="685800"/>
                <a:gridCol w="799920"/>
                <a:gridCol w="723960"/>
                <a:gridCol w="762120"/>
                <a:gridCol w="685800"/>
                <a:gridCol w="1218960"/>
              </a:tblGrid>
              <a:tr h="137088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трансплант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операций (трансплантаций) -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пераций,  при которых наблюдалис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ложне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де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иро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нн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ов 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фологическ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следование 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лантации всего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 marL="8892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дц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желудочной желез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 marL="8892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нкой киш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 marL="8892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тного мозг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х орган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лантации 2-х и более орган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4927-D18B-4A5F-B2C3-855CF4E067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42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В таблицу вносится информация о пересадке органов, а из тканей – только о костном мозг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Данные о пересадке тканей (роговицы, свободного кожного лоскута и т.д.) не вносятся в таблиц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В таблице не показываются реконструктивно-пластические операции с использованием аутотрансплантатов органов или тканей человека, а также с использованием медицинских изделий, полученных из органов или тканей челове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В строку «прочие органы» вносится информация о пересадке трахеи, верхней конечности и ее фрагментов, нижней конечности и ее конечнос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В графе 9 необходимо указывать число направленных материалов на морфологическое исследование по числу трансплантаций  (Приказ МЗ РФ от 24 марта 2016 г. № 179Н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Необходимо проведение сверки данных таблицы с отраслевой формой №63 – должно быть строгое соответств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5964-7E32-457B-A4A4-2A4EB951D8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Ошибки, связанные с некорректным кодированием по МКБ-10 основного заболевания и первоначальной причины смерти пацие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F7FA-FF13-4659-BF8E-3C76EED214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Кодирование ишемических болезней сердц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тенокардия не может быть  первоначальной причиной смерти пациента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c0472"/>
                </a:solidFill>
                <a:latin typeface="Calibri"/>
              </a:rPr>
              <a:t>Пациент поступает с диагнозом: Стенокардия (Нестабильная стенокардия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Выписывается </a:t>
            </a:r>
            <a:r>
              <a:rPr b="0" lang="ru-RU" sz="2000" spc="-1" strike="noStrike">
                <a:solidFill>
                  <a:srgbClr val="0c0472"/>
                </a:solidFill>
                <a:latin typeface="Calibri"/>
              </a:rPr>
              <a:t>с диагнозом: Стенокардия (Нестабильная стенокардия) строка 10.4.1 или 10.4.1.1 графа 4 (13, 2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c0472"/>
                </a:solidFill>
                <a:latin typeface="Calibri"/>
              </a:rPr>
              <a:t>В случае </a:t>
            </a: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смерти</a:t>
            </a:r>
            <a:r>
              <a:rPr b="0" lang="ru-RU" sz="2000" spc="-1" strike="noStrike">
                <a:solidFill>
                  <a:srgbClr val="0c0472"/>
                </a:solidFill>
                <a:latin typeface="Calibri"/>
              </a:rPr>
              <a:t> больного, поступившего с диагнозом Стенокардия (Нестабильная стенокардия) используется </a:t>
            </a: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код </a:t>
            </a:r>
            <a:r>
              <a:rPr b="1" lang="en-US" sz="2000" spc="-1" strike="noStrike">
                <a:solidFill>
                  <a:srgbClr val="0c0472"/>
                </a:solidFill>
                <a:latin typeface="Calibri"/>
              </a:rPr>
              <a:t>I25</a:t>
            </a: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c0472"/>
                </a:solidFill>
                <a:latin typeface="Calibri"/>
              </a:rPr>
              <a:t>–Хроническая ишемическая болезнь сердца - строка 10.4.5, графа 8 (17, 2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5503-A4AF-4D8F-BC9C-43636D95C4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2"/>
          <p:cNvSpPr/>
          <p:nvPr/>
        </p:nvSpPr>
        <p:spPr>
          <a:xfrm>
            <a:off x="684360" y="404640"/>
            <a:ext cx="802800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дирование ишемических болезней серд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(Из Рекомендаций  по кодированию некоторых заболеваний из класса IX  «Болезни системы кровообращения» МКБ-10, утвержд. письмом МЗ РФ № 14-9/10/2-415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от 26 апреля 2011 г.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4"/>
          <p:cNvSpPr/>
          <p:nvPr/>
        </p:nvSpPr>
        <p:spPr>
          <a:xfrm>
            <a:off x="1116000" y="1484280"/>
            <a:ext cx="755964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лучае смерти от острого или повторного инфаркта миокарда следует помнить, что не все случаи инфарктов миокарда кодируются  I21-I22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при сочетании острого или повторного инфаркта миокарда со злокачественным новообразованием, сахарным диабетом или бронхиальной астмой первоначальной причиной смерти считают эти заболевания, а инфаркты миокарда – их осложнениями (МКБ-10, т. 2, стр. 75), данные сочетания должны быть правильно отражены в заключительном посмертном диагнозе, промежуток времени сохраняется – не позднее 28 дней от начала возникновения инфаркта или в пределах эпизода оказания медицинской помощ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в остальных случаях первоначальной причиной смерти следует считать острый или повторный инфаркт миокарда (коды I21-I22) в промежуток времени до 28 дней или в пределах эпизода оказания медицинской помощи (даже, если эпизод закончился позже 28 дней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если диагноз инфаркта миокарда был установлен после 28 дней от  его возникновения, первоначальной причиной смерти следует считать постинфарктный кардиосклероз, код I25.8 (МКБ-10, т. 1, ч. 1, стр. 49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7AEE-9C8C-4B08-B698-6EBDFA1EBD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2"/>
          <p:cNvSpPr/>
          <p:nvPr/>
        </p:nvSpPr>
        <p:spPr>
          <a:xfrm>
            <a:off x="684360" y="404640"/>
            <a:ext cx="802800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дирование ишемических болезней сердца (продолж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(Из Рекомендаций  по кодированию некоторых заболеваний из класса IX  «Болезни системы кровообращения» МКБ-10, утвержд. письмом МЗ РФ № 14-9/10/2-415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от 26 апреля 2011 г.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4"/>
          <p:cNvSpPr/>
          <p:nvPr/>
        </p:nvSpPr>
        <p:spPr>
          <a:xfrm>
            <a:off x="1116000" y="1484280"/>
            <a:ext cx="7559640" cy="38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код I25.2 в качестве первоначальной причины смерти не применяется, данное состояние обозначает инфаркт миокарда, перенесенный в прошлом и диагностированный по ЭКГ, в текущий период – бессимптомный. При наличии в первичной медицинской документации записи о перенесенном в прошлом инфаркте миокарда как единичном состоянии и отсутствии диагнозов других заболеваний, первоначальной причиной смерти следует считать постинфарктный кардиосклероз, код I25.8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коды I23 и I24.0 в качестве первоначальной причины смерти также не применяются, необходимо использовать коды I21-I22 (МКБ-10, т. 2, стр. 61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- при сочетании инфаркта миокарда (острого или повторного) с болезнями, характеризующимися повышенным кровяным давлением, приоритет при выборе первоначальной причины смерти всегда отдается инфаркту миокарда (МКБ-10, т. 2, стр. 59-61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FEDD-881A-46DB-8A53-50ABD264A3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Схема 1" descr=""/>
          <p:cNvPicPr/>
          <p:nvPr/>
        </p:nvPicPr>
        <p:blipFill>
          <a:blip r:embed="rId1"/>
          <a:stretch/>
        </p:blipFill>
        <p:spPr>
          <a:xfrm>
            <a:off x="785880" y="390600"/>
            <a:ext cx="7572240" cy="5645160"/>
          </a:xfrm>
          <a:prstGeom prst="rect">
            <a:avLst/>
          </a:prstGeom>
          <a:ln w="0">
            <a:noFill/>
          </a:ln>
        </p:spPr>
      </p:pic>
      <p:sp>
        <p:nvSpPr>
          <p:cNvPr id="21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E518-6425-45CF-AF09-9E10D828CC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Arial"/>
                <a:ea typeface="Arial"/>
              </a:rPr>
              <a:t>Источники информации </a:t>
            </a:r>
            <a:br>
              <a:rPr sz="2500"/>
            </a:br>
            <a:r>
              <a:rPr b="1" lang="ru-RU" sz="2500" spc="-1" strike="noStrike">
                <a:solidFill>
                  <a:srgbClr val="660033"/>
                </a:solidFill>
                <a:latin typeface="Arial"/>
                <a:ea typeface="Arial"/>
              </a:rPr>
              <a:t>при составлении формы №14: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42920" y="1341360"/>
            <a:ext cx="777240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форма №066/у-02 «Статистическая карта выбывшего из стационара круглосуточного пребывани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форма №016/у-02 «Ведомость учета движения пациентов и коечного фонда стационар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форма №001 «Журнал учета приема больных и отказов в госпитализаци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форма 003/у «Медицинская карта стационарного больного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Форма №106/у-08 «Медицинское свидетельство о смерти и форма №106-2/у-08 «Медицинское свидетельство о перинатальной смертност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0A8F-9122-4CF2-A47A-6ED3364D66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64480" cy="556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Сепсис</a:t>
            </a: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является </a:t>
            </a: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осложнением</a:t>
            </a: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 обширных гнойных процессов (одонтогенных, остеогенных, отогенных, тонзиллогенных, риногенных, генитальных, урогенных, раневых и т.д.).</a:t>
            </a: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 редких случая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когда причину сепсиса установить не удается, он носит названи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иптогенног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и кодируется как самостоятельная нозологическая форм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Calibri"/>
                <a:ea typeface="Times New Roman"/>
              </a:rPr>
              <a:t>Необходимо обратить внимание на такое нарушение, когда в акушерско-гинекологической практике сепсис регистрируется не как осложнение аборта, беременности, родов и послеродового периода, а как криптогенное заболеван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B0C2-DA23-4211-8B98-F2C06B87F5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ДИНАМИКА ЛЕТАЛЬНОСТИ ОТ СЕПСИСА В СТАЦИОНАРАХ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оссийская Федера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68360" y="1413000"/>
          <a:ext cx="8229600" cy="43495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ходы сепсиса в стациона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было больных (взрослые+дет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ло больных (взрослые+дет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ь летальности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9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2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D3D4-1AC4-4FEF-91D5-936984426F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446040" y="1270080"/>
            <a:ext cx="8253360" cy="49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760" bIns="1587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ПРИЧИНЫ ХРОНИЧЕСКОЙ ПОЧЕЧНОЙ НЕДОСТАТО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 Хронический гломерулонефрит (поражение клубочкового аппарата почек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 Вторичные поражения почек, вызванные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сахарным диабетом 1 и 2 типа;</a:t>
            </a:r>
            <a:br>
              <a:rPr sz="1800"/>
            </a:b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- артериальной гипертензией;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истемными заболеваниями соединительной ткан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ирусным гепатитом «В» и/или «С»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истемными васкулитам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дагрой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маляри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злокачественными новообразованиям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 Хронический пиелонефри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 Мочекаменная болезнь, обструкция мочевыводящих путе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 Аномалии развития мочевыделительной систем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 Поликистоз почек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 Действие токсических веществ и лекар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8229600" cy="81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alibri"/>
              </a:rPr>
              <a:t>ПОЧЕЧНАЯ НЕДОСТАТОЧ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3B96-DBC8-4FCD-B1B4-BD1DB11DD6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Arial"/>
              </a:rPr>
              <a:t>ДИНАМИКА ЛЕТАЛЬНОСТИ ОТ ПОЧЕЧНОЙ НЕДОСТАТОЧНОСТИ В СТАЦИОНАРАХ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826920" y="1628640"/>
          <a:ext cx="7129800" cy="4489560"/>
        </p:xfrm>
        <a:graphic>
          <a:graphicData uri="http://schemas.openxmlformats.org/drawingml/2006/table">
            <a:tbl>
              <a:tblPr/>
              <a:tblGrid>
                <a:gridCol w="828720"/>
                <a:gridCol w="1835280"/>
                <a:gridCol w="1873080"/>
                <a:gridCol w="2592720"/>
              </a:tblGrid>
              <a:tr h="542880">
                <a:tc rowSpan="2"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ходы лечения почечной недостаточности в стационар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ыло боль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зрослые + де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ло боль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зрослые + де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ь летальности в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632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2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2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5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668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6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9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668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1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5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4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53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,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2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2817-3BA8-48DA-9F0D-D88097ABA0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7" descr=""/>
          <p:cNvPicPr/>
          <p:nvPr/>
        </p:nvPicPr>
        <p:blipFill>
          <a:blip r:embed="rId1"/>
          <a:stretch/>
        </p:blipFill>
        <p:spPr>
          <a:xfrm>
            <a:off x="612720" y="246240"/>
            <a:ext cx="719280" cy="66168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48"/>
          <p:cNvSpPr/>
          <p:nvPr/>
        </p:nvSpPr>
        <p:spPr>
          <a:xfrm>
            <a:off x="1547640" y="260280"/>
            <a:ext cx="6983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ятельность стационаров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ИМПТО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826920" y="1197000"/>
          <a:ext cx="7797960" cy="4236840"/>
        </p:xfrm>
        <a:graphic>
          <a:graphicData uri="http://schemas.openxmlformats.org/drawingml/2006/table">
            <a:tbl>
              <a:tblPr/>
              <a:tblGrid>
                <a:gridCol w="1559160"/>
                <a:gridCol w="1560600"/>
                <a:gridCol w="1558800"/>
                <a:gridCol w="1560600"/>
                <a:gridCol w="1558800"/>
              </a:tblGrid>
              <a:tr h="304920">
                <a:tc rowSpan="3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росл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иса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иса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2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0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5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2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5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1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6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3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8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9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8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3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9110-3486-4333-80C7-DAC5D9F6F7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еятельность стационаров Российской Федерации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ИМПТО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Прямоугольник 2"/>
          <p:cNvSpPr/>
          <p:nvPr/>
        </p:nvSpPr>
        <p:spPr>
          <a:xfrm>
            <a:off x="900000" y="1557360"/>
            <a:ext cx="763272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Пациенты с симптомами заболевания госпитализируются для уточнения диагноза. 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Если диагноз заболевания не уточнен, эти случаи госпитализации следует рассматривать как обследование и должны регистрироваться в строке 21.0 «Факторы, влияющие на состояние здоровья и обращения в учреждения здравоохране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ждый случай летального исхода по классу 18 МКБ-10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(симптомы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должен быть подтвержден письменной копией посмертного заключительного диагноза при сдаче годового отчета с указанием кода первоначальной причины смер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Все случаи выписки пациентов с диагнозом по классу 18 МКБ-10 (симптомы) должны бы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тверждены письменно с указанием кода и пояснением причины использования данного к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961F-B368-445C-A988-FB782DFDF5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арость – первоначальная причина смерт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Прямоугольник 2"/>
          <p:cNvSpPr/>
          <p:nvPr/>
        </p:nvSpPr>
        <p:spPr>
          <a:xfrm>
            <a:off x="684360" y="1125360"/>
            <a:ext cx="813564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Термин «старость» относится к неточно обозначенным состояниям (в соответствии с правилом А модификации выбранной причины смерти). </a:t>
            </a:r>
            <a:br>
              <a:rPr sz="1800"/>
            </a:b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Старость не может быть выбрана в качестве первоначальной причины смерти при наличии любого состояния, классифицированного в других рубриках (МКБ-10, том 2, стр. 46-4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ритериями использован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д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4 «Старость» в качестве первоначальной причины смерти явля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раст старше 80 л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сутствие в медицинской документации указаний на хронические заболевания, травмы и их последствия, способные вызвать смер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сутствие подозрений на насильственную смер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и проведении патологоанатомического или судебно-медицинского вскрытия  умершего в возрасте старше 80 лет отсутствие патологических изменений в органах и тканях невозможно. После проведения вскрытия с учетом гистологических данных, должны быть определены конкретные причины, приведшие к смерти, что исключает использования термина «Старость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0c04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89C1-479E-4F30-90EA-383564EBF4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 </a:t>
            </a:r>
            <a:br>
              <a:rPr sz="2400"/>
            </a:b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Состояния, которые не могут быть первоначальной причиной летального исхода в стационаре</a:t>
            </a: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Сепси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Почечная недостаточ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Ожир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Расстройства вегетативной нервной сист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539640" y="3866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аждый случай летального исхода при использовании этих осложнений в качестве причины смерти должен быть подтвержден письменной копией посмертного заключительного диагноза при сдаче годового отчета с указанием кода МКБ о первоначальной причине смер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9672-7A1E-4232-91AF-68E32BCDFD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67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Необходимо представить подтверждения на следующие случаи смер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9672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Сепсис (А40-41, строка 2.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Анемии (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D50-D64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, строка 4.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Ожирение (Е66, строка 5.1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Психические расстройства и расстройства поведения (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F0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-F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0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9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, строка 6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Грипп (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J09-J11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, строка 11.2 )– для детей 0-17 л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SzPct val="13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Острые респираторные  инфекции верхних дыхательных путей (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J00-J06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, строка 11.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Язва желудка и двенадцатиперстной кишки (К25-К26, строка 12.1) – для детей 0-17 л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Гастрит и дуоденит (К29, строка 12.2) – для взрослых 18 лет и старш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Все случаи смерти женщин (от внематочной беременности, аборта, беременных, рожениц и родильниц) (О00-О99, строка 16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Расстройства вегетативной нервной системы (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G90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, строка 7.1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Геморрой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 (K64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, строка 12.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317C-800F-47F4-A7DF-D88ADF20A4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ДИНАМИКА ЛЕТАЛЬНОСТИ ОТ ОЖИРЕНИЯ В СТАЦИОНАРАХ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оссийская Федера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68360" y="1413000"/>
          <a:ext cx="8229600" cy="4714920"/>
        </p:xfrm>
        <a:graphic>
          <a:graphicData uri="http://schemas.openxmlformats.org/drawingml/2006/table">
            <a:tbl>
              <a:tblPr/>
              <a:tblGrid>
                <a:gridCol w="2057400"/>
                <a:gridCol w="1254240"/>
                <a:gridCol w="803160"/>
                <a:gridCol w="1212840"/>
                <a:gridCol w="844560"/>
                <a:gridCol w="1171440"/>
                <a:gridCol w="885960"/>
              </a:tblGrid>
              <a:tr h="37152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6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ходы  ожирения в стациона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бо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ло бо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ь летальности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зросл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зросл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зросл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E557-1D15-41BA-BE18-CE3367744C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 </a:t>
            </a:r>
            <a:br>
              <a:rPr sz="2400"/>
            </a:b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Основные принципы формир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4173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Использование МКБ -10 пересмот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Заключительный клинический диагно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Только основное заболеван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Только первоначальная причина смер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Calibri"/>
              </a:rPr>
              <a:t>При составлении Формы для отнесения заболеваний к той или иной нозологической форме или классу заболеваний, следует руководствоваться заключительным клиническим диагнозом, а в случае смерти – первоначальной причиной смерти. 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В Форму включаются только те заболевания, которые выставлены в качестве «основного заболевания». Если состояния, указанные в строках 10.6.6,10.6.7, 10.6.8 и 10.6.9 </a:t>
            </a:r>
            <a:r>
              <a:rPr b="1" lang="en-US" sz="1800" spc="-1" strike="noStrike">
                <a:solidFill>
                  <a:srgbClr val="800000"/>
                </a:solidFill>
                <a:latin typeface="Calibri"/>
              </a:rPr>
              <a:t>[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едсердно-желудочковая (атриовентрикулярная) блокад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желудочковая тахикардия, фибрилляция и трепетание предсердий, синдром слабости синусового узла</a:t>
            </a:r>
            <a:r>
              <a:rPr b="1" lang="en-US" sz="1800" spc="-1" strike="noStrike">
                <a:solidFill>
                  <a:srgbClr val="800000"/>
                </a:solidFill>
                <a:latin typeface="Calibri"/>
              </a:rPr>
              <a:t>]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 являются осложнением «основного заболевания», они в Форму не включаютс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6CCF-C123-42BA-844A-1234B575FF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1"/>
          <p:cNvSpPr/>
          <p:nvPr/>
        </p:nvSpPr>
        <p:spPr>
          <a:xfrm>
            <a:off x="684360" y="1341360"/>
            <a:ext cx="79912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оследствия инфекционных и паразитарных болезней (рубрики охватывают все инфекционные и паразитарные болезни) В90-В9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оследствия недостаточности питания и недостатка других питательных веществ Е6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оследствия избыточности питания Е6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оследствия воспалительных болезней центральной нервной системы G0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оследствия цереброваскулярных болезней I6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Смерть матери от последствий прямых акушерских причин O9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оследствия воздействия внешних причин заболеваемости и смертности Y85-Y8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2"/>
          <p:cNvSpPr/>
          <p:nvPr/>
        </p:nvSpPr>
        <p:spPr>
          <a:xfrm>
            <a:off x="576360" y="34596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РУБРИКИ ПОСЛЕДСТВИЙ МКБ-10, ПРЕДНАЗНАЧЕННЫЕ ДЛЯ КОДИРОВАНИЯ ТОЛЬКО ПЕРВОНАЧАЛЬНОЙ ПРИЧИНЫ СМЕР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4EC7-FC25-4445-905C-4219488E0A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2"/>
          <p:cNvSpPr/>
          <p:nvPr/>
        </p:nvSpPr>
        <p:spPr>
          <a:xfrm>
            <a:off x="684360" y="404640"/>
            <a:ext cx="802800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дирование цереброваскулярных болез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(Из Рекомендаций  по кодированию некоторых заболеваний из класса IX  «Болезни системы кровообращения» МКБ-10, утвержд. письмом МЗ РФ № 14-9/10/2-415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от 26 апреля 2011 г.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4"/>
          <p:cNvSpPr/>
          <p:nvPr/>
        </p:nvSpPr>
        <p:spPr>
          <a:xfrm>
            <a:off x="1116000" y="1484280"/>
            <a:ext cx="7559640" cy="45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личают острые формы цереброваскулярных болезней продолжительностью до 30 дней (приказ  Минздравсоцразвития России от 01.08.2007 № 513) – рубрики I60-I66; хронические формы, классифицированы в рубрике I67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ледствия цереброваскулярных болезней (рубрика I69) используются только для регистрации летальных исход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ледствия цереброваскулярных болезней существуют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 течение года и более с момента возникновения острой формы заболевания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ключают в себя различные состояния, классифицированные в других рубриках (МКБ-10, т. 1, ч. 1, стр. 512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татистике заболеваемости не следует использовать рубрику последствий (I69), а необходимо указывать конкретные состояния, которые явились следствием острых форм цереброваскулярных болезней, например, энцефалопатия, паралич и т.д. (МКБ-10, т. 2, стр.115-116). При этом минимальный промежуток времени не установле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8B3C-9F12-4822-A6C8-DB0E088FFD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рямоугольник 2"/>
          <p:cNvSpPr/>
          <p:nvPr/>
        </p:nvSpPr>
        <p:spPr>
          <a:xfrm>
            <a:off x="684360" y="404640"/>
            <a:ext cx="802800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дирование цереброваскулярных болез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(Из Рекомендаций  по кодированию некоторых заболеваний из класса IX  «Болезни системы кровообращения» МКБ-10, утвержд. письмом МЗ РФ № 14-9/10/2-415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от 26 апреля 2011 г.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4"/>
          <p:cNvSpPr/>
          <p:nvPr/>
        </p:nvSpPr>
        <p:spPr>
          <a:xfrm>
            <a:off x="1116000" y="1484280"/>
            <a:ext cx="75596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пределах эпизода оказания медицинской помощи, если диагноз эпизода или госпитализации; установлен до 30 дней от начала заболевания, то  регистрируют острые формы цереброваскулярных болезней, независимо от продолжительности эпизода или госпитализ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, в пределах 30 дней закончилась первая госпитализация и началась вторая, то при второй госпитализации регистрируют  хроническую форму, классифицированную в рубрик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I67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ли одно из состояний в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рубриках конкретных неврологических расстройст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 эпизод оказания медицинской помощи начался позже 30 дней, то регистрируют  хронические формы, классифицированные в рубрик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I67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ли состояния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 рубриках конкретных неврологических расстройст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но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е последстви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реброваскулярных болезней (рубрика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I69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1DAB-15AD-4978-8A09-B3922509F0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2"/>
          <p:cNvSpPr/>
          <p:nvPr/>
        </p:nvSpPr>
        <p:spPr>
          <a:xfrm>
            <a:off x="1187280" y="345960"/>
            <a:ext cx="73803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дирование цереброваскулярных болез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(Продолж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4"/>
          <p:cNvSpPr/>
          <p:nvPr/>
        </p:nvSpPr>
        <p:spPr>
          <a:xfrm>
            <a:off x="1116000" y="1484280"/>
            <a:ext cx="75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5"/>
          <p:cNvSpPr/>
          <p:nvPr/>
        </p:nvSpPr>
        <p:spPr>
          <a:xfrm>
            <a:off x="684360" y="1125360"/>
            <a:ext cx="81356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лучае смерти от острых форм цереброваскулярных болезней следует помнить, что не все эти случаи кодируются  I60-I64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при сочетании острых форм цереброваскулярных болезней со злокачественным новообразованием, сахарным диабетом или бронхиальной астмой первоначальной причиной смерти считают эти заболевания, а острые формы цереброваскулярных болезней – их осложнениями (МКБ-10, т. 2, стр. 75), данные сочетания должны быть правильно отражены в заключительном посмертном диагнозе, промежуток времени сохраняется – не позднее 30 дней от начала возникновения заболевания или в пределах эпизода оказания медицинской помощ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в остальных случаях первоначальной причиной смерти следует считать острые формы цереброваскулярных болезней (коды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I60-I64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в промежуток времени до 30 дней или в пределах эпизода оказания медицинской помощи (даже, если он закончился позже)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если диагноз установлен после 30 дней от возникновения заболевания, первоначальной причиной смерти следует считать хронические формы, классифицированные в рубрик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I67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ли последствия цереброваскулярных болезней (рубрика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I69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коды I65 и I66 в качестве первоначальной причины смерти не применяются, необходимо использовать коды I63 (МКБ-10, т. 2, стр. 6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05D9-3F6D-424D-A63F-CE661C4168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Схема 1" descr=""/>
          <p:cNvPicPr/>
          <p:nvPr/>
        </p:nvPicPr>
        <p:blipFill>
          <a:blip r:embed="rId1"/>
          <a:stretch/>
        </p:blipFill>
        <p:spPr>
          <a:xfrm>
            <a:off x="957240" y="182520"/>
            <a:ext cx="7589880" cy="5627880"/>
          </a:xfrm>
          <a:prstGeom prst="rect">
            <a:avLst/>
          </a:prstGeom>
          <a:ln w="0">
            <a:noFill/>
          </a:ln>
        </p:spPr>
      </p:pic>
      <p:sp>
        <p:nvSpPr>
          <p:cNvPr id="26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E5D0-7DA3-40D5-80E0-59C6A54368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628640"/>
            <a:ext cx="8062920" cy="28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c0472"/>
                </a:solidFill>
                <a:latin typeface="Calibri"/>
              </a:rPr>
              <a:t>В последние годы в связи с реализацией  Федеральных нацпроектов и проведением мониторинга мероприятий по снижению смертности от 7 нозологий в Российской Федерации наблюдается тенденция к росту смертности по классам болезней и нозологиям, по которым наблюдение не осуществляется</a:t>
            </a: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0c0472"/>
                </a:solidFill>
                <a:latin typeface="Calibri"/>
              </a:rPr>
              <a:t>При наличии достаточно высокого числа летальных исходов по данным классам болезней и нозологиям следует предоставить </a:t>
            </a: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список первоначальных причин смерти с кодами по МКБ-10 и пояснениям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34F3-F354-4250-BC71-1F90314361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4360" y="35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Zdravmanager.r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Прямоугольник 2"/>
          <p:cNvSpPr/>
          <p:nvPr/>
        </p:nvSpPr>
        <p:spPr>
          <a:xfrm>
            <a:off x="1116000" y="836640"/>
            <a:ext cx="684072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МАНОШК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Елена Михайл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Ведущий научный сотрудник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кандидат медицинских на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почта: </a:t>
            </a:r>
            <a:r>
              <a:rPr b="1" lang="en-US" sz="1800" spc="-1" strike="noStrike">
                <a:solidFill>
                  <a:srgbClr val="0c0472"/>
                </a:solidFill>
                <a:latin typeface="Arial"/>
              </a:rPr>
              <a:t>manoshkina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@mednet.ru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-925-299-78-01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F847-FFC9-4DF4-81A1-AD0D7A2AB0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1266840" y="2708280"/>
            <a:ext cx="66103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alibri"/>
              </a:rPr>
              <a:t>БЛАГОДАРЮ ЗА ВНИМ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0246-BA2C-47BC-A095-738ED94131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611280" y="1844640"/>
            <a:ext cx="7848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В таблицу включаются свед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c04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о всех выписанных пациентах изо всех стационар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c04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о доставленных по экстренным показаниям, в том числе СМП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c04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о проведенных койко-дня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c04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об умерших во всех стационара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c04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о числе вскрытий (патологоанатомических и судебно-медицинских) и числе расхождений диагно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900000" y="620640"/>
            <a:ext cx="76327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Arial"/>
              </a:rPr>
              <a:t>Форма №14 </a:t>
            </a: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Таблица 2000</a:t>
            </a:r>
            <a:br>
              <a:rPr sz="2800"/>
            </a:b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1.</a:t>
            </a:r>
            <a:r>
              <a:rPr b="1" lang="ru-RU" sz="1800" spc="-1" strike="noStrike">
                <a:solidFill>
                  <a:srgbClr val="75213f"/>
                </a:solidFill>
                <a:latin typeface="Arial"/>
              </a:rPr>
              <a:t>Состав пациентов в стационаре, сроки и исходы л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3"/>
          <p:cNvSpPr/>
          <p:nvPr/>
        </p:nvSpPr>
        <p:spPr>
          <a:xfrm>
            <a:off x="712800" y="4152960"/>
            <a:ext cx="77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В таблицу не включаются сведения о пациентах, переведенных в другие организации (стационар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Сведения о переведенных госпитализированных показываются в  таблице 21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6308-4E02-431D-82E7-BE2C7EC85C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611280" y="1844640"/>
            <a:ext cx="784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Сведения о числе умерших беременных, а также женщин, умерших в течение 42 дней после окончания беременности независимо от ее продолжительности и локализации от какой-либо причины, связанной с беременностью, отягощенной ею или ее ведением, но не от несчастного случая или случайно возникшей причины, в соответствии с критериями ВОЗ, включаются в строку 16.0 «Беременность, роды и послеродовый период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Сведения о  случаях смерти женщин по истечении 42 дней после беременности показываются в форме на общих основания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2"/>
          <p:cNvSpPr/>
          <p:nvPr/>
        </p:nvSpPr>
        <p:spPr>
          <a:xfrm>
            <a:off x="971640" y="311040"/>
            <a:ext cx="7632720" cy="11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Arial"/>
              </a:rPr>
              <a:t>Форма №14</a:t>
            </a:r>
            <a:br>
              <a:rPr sz="2500"/>
            </a:br>
            <a:r>
              <a:rPr b="1" lang="ru-RU" sz="2500" spc="-1" strike="noStrike">
                <a:solidFill>
                  <a:srgbClr val="660033"/>
                </a:solidFill>
                <a:latin typeface="Arial"/>
              </a:rPr>
              <a:t>Таблица 2000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1.</a:t>
            </a:r>
            <a:r>
              <a:rPr b="1" lang="ru-RU" sz="1800" spc="-1" strike="noStrike">
                <a:solidFill>
                  <a:srgbClr val="75213f"/>
                </a:solidFill>
                <a:latin typeface="Arial"/>
              </a:rPr>
              <a:t>Состав пациентов в стационаре, сроки и исходы л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C582-4765-4B22-81F2-6BC42ECE49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2000  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Некоторые условия контро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417680"/>
          <a:ext cx="8229600" cy="1782720"/>
        </p:xfrm>
        <a:graphic>
          <a:graphicData uri="http://schemas.openxmlformats.org/drawingml/2006/table">
            <a:tbl>
              <a:tblPr/>
              <a:tblGrid>
                <a:gridCol w="2495520"/>
                <a:gridCol w="466920"/>
                <a:gridCol w="647640"/>
                <a:gridCol w="531720"/>
                <a:gridCol w="598320"/>
                <a:gridCol w="600120"/>
                <a:gridCol w="522360"/>
                <a:gridCol w="522360"/>
                <a:gridCol w="460440"/>
                <a:gridCol w="461880"/>
                <a:gridCol w="460440"/>
                <a:gridCol w="461880"/>
              </a:tblGrid>
              <a:tr h="137520"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-10 пересмот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Взрослые (18 лет и более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выписа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йко-дн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о- ставле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х п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тренны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ния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-н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 помощь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мических вскры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судебно-медицин-ски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57200" y="3330720"/>
          <a:ext cx="8234280" cy="1536480"/>
        </p:xfrm>
        <a:graphic>
          <a:graphicData uri="http://schemas.openxmlformats.org/drawingml/2006/table">
            <a:tbl>
              <a:tblPr/>
              <a:tblGrid>
                <a:gridCol w="2543040"/>
                <a:gridCol w="454320"/>
                <a:gridCol w="610920"/>
                <a:gridCol w="478080"/>
                <a:gridCol w="609480"/>
                <a:gridCol w="611280"/>
                <a:gridCol w="609480"/>
                <a:gridCol w="455760"/>
                <a:gridCol w="465120"/>
                <a:gridCol w="465120"/>
                <a:gridCol w="466560"/>
                <a:gridCol w="465120"/>
              </a:tblGrid>
              <a:tr h="20772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болезни, характеризующиеся повышенным    кровяным давлени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0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0-</a:t>
                      </a: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3040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ссенциальная гипертенз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ертензивная болезнь сердца (гипертоническая болезнь с преимущественным поражением сердца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ертензивная болезнь почек (гипертоническая болезнь с преимущественным поражением  почек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ертензивная болезнь сердца и  почек (гипертоническая болезнь с преимущественным поражением сердца и почек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Прямоугольник 7"/>
          <p:cNvSpPr/>
          <p:nvPr/>
        </p:nvSpPr>
        <p:spPr>
          <a:xfrm>
            <a:off x="646200" y="4869000"/>
            <a:ext cx="79912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трока 10.3 равна сумме строк (10.3.1+10.3.2+10.3.3+ 0.3.4) по всем граф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14,2000,103,04:33=14,2000,313╧316,04:33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3DF9-4DC1-499E-B861-42ED726632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2000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Некоторые условия контро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417680"/>
          <a:ext cx="8229600" cy="1782720"/>
        </p:xfrm>
        <a:graphic>
          <a:graphicData uri="http://schemas.openxmlformats.org/drawingml/2006/table">
            <a:tbl>
              <a:tblPr/>
              <a:tblGrid>
                <a:gridCol w="2495520"/>
                <a:gridCol w="466920"/>
                <a:gridCol w="647640"/>
                <a:gridCol w="531720"/>
                <a:gridCol w="598320"/>
                <a:gridCol w="600120"/>
                <a:gridCol w="522360"/>
                <a:gridCol w="522360"/>
                <a:gridCol w="460440"/>
                <a:gridCol w="461880"/>
                <a:gridCol w="460440"/>
                <a:gridCol w="461880"/>
              </a:tblGrid>
              <a:tr h="137520"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-10 пересмот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Взрослые (18 лет и более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выписа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йко-дн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о- ставле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х п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тренны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ния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-н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 помощь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мических вскры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судебно-медицин-ски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Прямоугольник 7"/>
          <p:cNvSpPr/>
          <p:nvPr/>
        </p:nvSpPr>
        <p:spPr>
          <a:xfrm>
            <a:off x="646200" y="4869000"/>
            <a:ext cx="79912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трока 10.4 равна сумме строк (10.4.1+10.4.2+10.4.3+ 10.4.4+ 10.4.5) по всем граф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14,2000,104,04:33=14,2000,317+319+320+372+373,04:33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3314880"/>
          <a:ext cx="8229600" cy="1600200"/>
        </p:xfrm>
        <a:graphic>
          <a:graphicData uri="http://schemas.openxmlformats.org/drawingml/2006/table">
            <a:tbl>
              <a:tblPr/>
              <a:tblGrid>
                <a:gridCol w="2538360"/>
                <a:gridCol w="453960"/>
                <a:gridCol w="611280"/>
                <a:gridCol w="582480"/>
                <a:gridCol w="576360"/>
                <a:gridCol w="576360"/>
                <a:gridCol w="504720"/>
                <a:gridCol w="523800"/>
                <a:gridCol w="465120"/>
                <a:gridCol w="465120"/>
                <a:gridCol w="466920"/>
                <a:gridCol w="465120"/>
              </a:tblGrid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ишемические болезни серд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0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0- </a:t>
                      </a:r>
                      <a:r>
                        <a:rPr b="1" lang="en-US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тенокард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ее: нестабильная стенокард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1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20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й инфаркт миокар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торный инфаркт миокар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 marL="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формы острых ишемических болезней серд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 marL="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оническая ишемическая болезнь серд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ее: постинфарктный кардиосклеро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5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25.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015E-40AE-49C4-ADE8-6EBEFB18E7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7T11:05:35Z</dcterms:created>
  <dc:creator>Арсений А. Кучерявый</dc:creator>
  <dc:description/>
  <dc:language>en-US</dc:language>
  <cp:lastModifiedBy>emano</cp:lastModifiedBy>
  <cp:lastPrinted>2018-11-24T15:54:01Z</cp:lastPrinted>
  <dcterms:modified xsi:type="dcterms:W3CDTF">2019-12-01T21:41:00Z</dcterms:modified>
  <cp:revision>659</cp:revision>
  <dc:subject/>
  <dc:title>Видеотрансляция по вопросам мониторинга донорских органов и тканей человека, доноров органов и тканей, пациентов (реципиентов)</dc:title>
</cp:coreProperties>
</file>